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E426-FF82-4182-B30B-92347D3F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008000" y="401076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1E1D-304E-45F1-B02B-9F6029CD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0800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9068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8FB06-9C68-4A33-BEFF-610DF9C6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36000" y="168408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63640" y="168408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008000" y="401076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36000" y="401076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63640" y="401076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AD78-DF90-4729-AB30-73CD0DEF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2EB05-88F8-4243-B87E-12BC65CF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2C4AA-84E2-4097-B976-2D982EC9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79B3A-4711-4B29-932C-58810939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BBC30-5646-4237-B27E-1527DC23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E6251-C3F1-4C89-8686-0847B014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66600" y="444240"/>
            <a:ext cx="795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CF8BC-17C4-436E-AFE2-E1062D5B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0800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A2BF7-2708-405F-9FB2-77146878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0B73-D61B-4B50-BEBF-E17CD55B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068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15330-ABD7-4ACA-A26B-E566D2AB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08000" y="401076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73E78-E65E-43B0-AB4A-9B23F678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08000" y="401076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06771-B7DF-4ED4-8E77-683AAC85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0800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068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51E39-3515-4D85-A975-5C06D2BA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36000" y="168408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63640" y="168408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08000" y="401076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36000" y="401076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63640" y="401076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1A575-CE2A-4A3F-AF55-9D20D26B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048B-1F84-4EF3-99B3-A3552E80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13A4-4068-442D-9EFC-DCE4DCF3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11A5-1940-428A-89BF-9B340083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66600" y="444240"/>
            <a:ext cx="795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B917-9C44-4BBF-B8C0-25731E2E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800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6312-7F17-4569-A077-8DBDC2ED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9068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0144-3104-4A1A-84F6-CBC21C8C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08000" y="401076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AC7C-E3DE-4F33-8F04-B447F4DA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3722760" y="1455840"/>
              <a:ext cx="5343480" cy="339480"/>
            </a:xfrm>
            <a:custGeom>
              <a:avLst/>
              <a:gdLst>
                <a:gd name="textAreaLeft" fmla="*/ 0 w 5343480"/>
                <a:gd name="textAreaRight" fmla="*/ 5343840 w 534348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3366" h="276">
                  <a:moveTo>
                    <a:pt x="0" y="0"/>
                  </a:moveTo>
                  <a:cubicBezTo>
                    <a:pt x="1683" y="0"/>
                    <a:pt x="3366" y="0"/>
                    <a:pt x="3366" y="0"/>
                  </a:cubicBezTo>
                  <a:cubicBezTo>
                    <a:pt x="3366" y="0"/>
                    <a:pt x="3366" y="138"/>
                    <a:pt x="3366" y="276"/>
                  </a:cubicBezTo>
                  <a:cubicBezTo>
                    <a:pt x="1759" y="276"/>
                    <a:pt x="910" y="276"/>
                    <a:pt x="483" y="276"/>
                  </a:cubicBezTo>
                  <a:cubicBezTo>
                    <a:pt x="124" y="276"/>
                    <a:pt x="76" y="138"/>
                    <a:pt x="0" y="0"/>
                  </a:cubicBezTo>
                  <a:close/>
                </a:path>
              </a:pathLst>
            </a:cu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3200" y="41400"/>
              <a:ext cx="2432160" cy="1982520"/>
            </a:xfrm>
            <a:custGeom>
              <a:avLst/>
              <a:gdLst>
                <a:gd name="textAreaLeft" fmla="*/ 0 w 2432160"/>
                <a:gd name="textAreaRight" fmla="*/ 2432520 w 2432160"/>
                <a:gd name="textAreaTop" fmla="*/ 0 h 1982520"/>
                <a:gd name="textAreaBottom" fmla="*/ 1982880 h 1982520"/>
              </a:gdLst>
              <a:ahLst/>
              <a:rect l="textAreaLeft" t="textAreaTop" r="textAreaRight" b="textAreaBottom"/>
              <a:pathLst>
                <a:path w="3272" h="3134">
                  <a:moveTo>
                    <a:pt x="2442" y="0"/>
                  </a:moveTo>
                  <a:cubicBezTo>
                    <a:pt x="3272" y="1973"/>
                    <a:pt x="1243" y="3134"/>
                    <a:pt x="3" y="2430"/>
                  </a:cubicBezTo>
                  <a:cubicBezTo>
                    <a:pt x="0" y="2271"/>
                    <a:pt x="3" y="390"/>
                    <a:pt x="3" y="0"/>
                  </a:cubicBezTo>
                  <a:cubicBezTo>
                    <a:pt x="519" y="0"/>
                    <a:pt x="1637" y="0"/>
                    <a:pt x="2442" y="0"/>
                  </a:cubicBezTo>
                  <a:close/>
                </a:path>
              </a:pathLst>
            </a:cu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090880" y="561960"/>
              <a:ext cx="7053120" cy="74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1b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1449360"/>
              <a:ext cx="9144000" cy="235080"/>
            </a:xfrm>
            <a:prstGeom prst="rect">
              <a:avLst/>
            </a:pr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974880" y="638280"/>
              <a:ext cx="8169120" cy="8125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66600"/>
              <a:ext cx="2281320" cy="1833480"/>
            </a:xfrm>
            <a:custGeom>
              <a:avLst/>
              <a:gdLst>
                <a:gd name="textAreaLeft" fmla="*/ 0 w 2281320"/>
                <a:gd name="textAreaRight" fmla="*/ 2281680 w 2281320"/>
                <a:gd name="textAreaTop" fmla="*/ 0 h 1833480"/>
                <a:gd name="textAreaBottom" fmla="*/ 1833840 h 1833480"/>
              </a:gdLst>
              <a:ahLst/>
              <a:rect l="textAreaLeft" t="textAreaTop" r="textAreaRight" b="textAreaBottom"/>
              <a:pathLst>
                <a:path w="3272" h="3134">
                  <a:moveTo>
                    <a:pt x="2442" y="0"/>
                  </a:moveTo>
                  <a:cubicBezTo>
                    <a:pt x="3272" y="1973"/>
                    <a:pt x="1243" y="3134"/>
                    <a:pt x="3" y="2430"/>
                  </a:cubicBezTo>
                  <a:cubicBezTo>
                    <a:pt x="0" y="2271"/>
                    <a:pt x="3" y="390"/>
                    <a:pt x="3" y="0"/>
                  </a:cubicBezTo>
                  <a:cubicBezTo>
                    <a:pt x="519" y="0"/>
                    <a:pt x="1637" y="0"/>
                    <a:pt x="2442" y="0"/>
                  </a:cubicBezTo>
                  <a:close/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523800" y="122400"/>
              <a:ext cx="973080" cy="973080"/>
            </a:xfrm>
            <a:prstGeom prst="ellipse">
              <a:avLst/>
            </a:pr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687240" y="1447920"/>
              <a:ext cx="303480" cy="237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82680" y="1446120"/>
              <a:ext cx="306360" cy="238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03320" y="1446120"/>
              <a:ext cx="295200" cy="238320"/>
            </a:xfrm>
            <a:prstGeom prst="rect">
              <a:avLst/>
            </a:prstGeom>
            <a:solidFill>
              <a:srgbClr val="c3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905652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0"/>
                <a:ext cx="703440" cy="8064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rot="10800000">
                <a:off x="8440560" y="6048360"/>
                <a:ext cx="703440" cy="8064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1440"/>
                <a:ext cx="9144000" cy="7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783480"/>
                <a:ext cx="914400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V="1">
                <a:off x="0" y="6051600"/>
                <a:ext cx="703440" cy="8064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360 h 806400"/>
                  <a:gd name="textAreaBottom" fmla="*/ 80712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8440560" y="0"/>
                <a:ext cx="703440" cy="806400"/>
              </a:xfrm>
              <a:custGeom>
                <a:avLst/>
                <a:gdLst>
                  <a:gd name="textAreaLeft" fmla="*/ 360 w 703440"/>
                  <a:gd name="textAreaRight" fmla="*/ 704160 w 70344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ldNum" idx="2"/>
          </p:nvPr>
        </p:nvSpPr>
        <p:spPr>
          <a:xfrm>
            <a:off x="7097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E5E0-1F08-4A68-9EAA-2765F536C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body"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dt" idx="3"/>
          </p:nvPr>
        </p:nvSpPr>
        <p:spPr>
          <a:xfrm>
            <a:off x="96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" name="Rectangle 3"/>
            <p:cNvSpPr/>
            <p:nvPr/>
          </p:nvSpPr>
          <p:spPr>
            <a:xfrm>
              <a:off x="3581280" y="4343400"/>
              <a:ext cx="5562720" cy="914400"/>
            </a:xfrm>
            <a:prstGeom prst="rect">
              <a:avLst/>
            </a:prstGeom>
            <a:gradFill rotWithShape="0">
              <a:gsLst>
                <a:gs pos="0">
                  <a:srgbClr val="71b7b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3711600" y="4259160"/>
              <a:ext cx="5343480" cy="339840"/>
            </a:xfrm>
            <a:custGeom>
              <a:avLst/>
              <a:gdLst>
                <a:gd name="textAreaLeft" fmla="*/ 0 w 5343480"/>
                <a:gd name="textAreaRight" fmla="*/ 5343840 w 534348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3366" h="276">
                  <a:moveTo>
                    <a:pt x="0" y="0"/>
                  </a:moveTo>
                  <a:cubicBezTo>
                    <a:pt x="1683" y="0"/>
                    <a:pt x="3366" y="0"/>
                    <a:pt x="3366" y="0"/>
                  </a:cubicBezTo>
                  <a:cubicBezTo>
                    <a:pt x="3366" y="0"/>
                    <a:pt x="3366" y="138"/>
                    <a:pt x="3366" y="276"/>
                  </a:cubicBezTo>
                  <a:cubicBezTo>
                    <a:pt x="1759" y="276"/>
                    <a:pt x="910" y="276"/>
                    <a:pt x="483" y="276"/>
                  </a:cubicBezTo>
                  <a:cubicBezTo>
                    <a:pt x="124" y="276"/>
                    <a:pt x="76" y="138"/>
                    <a:pt x="0" y="0"/>
                  </a:cubicBezTo>
                  <a:close/>
                </a:path>
              </a:pathLst>
            </a:cu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0" y="2362320"/>
              <a:ext cx="9144000" cy="198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1b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0" y="24382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1b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8"/>
            <p:cNvSpPr/>
            <p:nvPr/>
          </p:nvSpPr>
          <p:spPr>
            <a:xfrm>
              <a:off x="0" y="0"/>
              <a:ext cx="3584520" cy="3433680"/>
            </a:xfrm>
            <a:custGeom>
              <a:avLst/>
              <a:gdLst>
                <a:gd name="textAreaLeft" fmla="*/ 0 w 3584520"/>
                <a:gd name="textAreaRight" fmla="*/ 3584880 w 3584520"/>
                <a:gd name="textAreaTop" fmla="*/ 0 h 3433680"/>
                <a:gd name="textAreaBottom" fmla="*/ 3434040 h 3433680"/>
              </a:gdLst>
              <a:ahLst/>
              <a:rect l="textAreaLeft" t="textAreaTop" r="textAreaRight" b="textAreaBottom"/>
              <a:pathLst>
                <a:path w="3272" h="3134">
                  <a:moveTo>
                    <a:pt x="2442" y="0"/>
                  </a:moveTo>
                  <a:cubicBezTo>
                    <a:pt x="3272" y="1973"/>
                    <a:pt x="1243" y="3134"/>
                    <a:pt x="3" y="2430"/>
                  </a:cubicBezTo>
                  <a:cubicBezTo>
                    <a:pt x="0" y="2271"/>
                    <a:pt x="3" y="390"/>
                    <a:pt x="3" y="0"/>
                  </a:cubicBezTo>
                  <a:cubicBezTo>
                    <a:pt x="519" y="0"/>
                    <a:pt x="1637" y="0"/>
                    <a:pt x="2442" y="0"/>
                  </a:cubicBezTo>
                  <a:close/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9"/>
            <p:cNvSpPr/>
            <p:nvPr/>
          </p:nvSpPr>
          <p:spPr>
            <a:xfrm>
              <a:off x="135000" y="130320"/>
              <a:ext cx="1743120" cy="1742760"/>
            </a:xfrm>
            <a:prstGeom prst="ellipse">
              <a:avLst/>
            </a:pr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687240" y="4273560"/>
              <a:ext cx="303480" cy="237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382680" y="4272120"/>
              <a:ext cx="306360" cy="2379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103320" y="4272120"/>
              <a:ext cx="295200" cy="237960"/>
            </a:xfrm>
            <a:prstGeom prst="rect">
              <a:avLst/>
            </a:prstGeom>
            <a:solidFill>
              <a:srgbClr val="c3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Group 1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74" name="Rectangle 14"/>
              <p:cNvSpPr/>
              <p:nvPr/>
            </p:nvSpPr>
            <p:spPr>
              <a:xfrm>
                <a:off x="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15"/>
              <p:cNvSpPr/>
              <p:nvPr/>
            </p:nvSpPr>
            <p:spPr>
              <a:xfrm>
                <a:off x="905652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0" y="0"/>
                <a:ext cx="703440" cy="8064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 rot="10800000">
                <a:off x="8440560" y="6048360"/>
                <a:ext cx="703440" cy="8064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8"/>
              <p:cNvSpPr/>
              <p:nvPr/>
            </p:nvSpPr>
            <p:spPr>
              <a:xfrm>
                <a:off x="0" y="1440"/>
                <a:ext cx="9144000" cy="7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9"/>
              <p:cNvSpPr/>
              <p:nvPr/>
            </p:nvSpPr>
            <p:spPr>
              <a:xfrm>
                <a:off x="0" y="6783480"/>
                <a:ext cx="914400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0"/>
              <p:cNvSpPr/>
              <p:nvPr/>
            </p:nvSpPr>
            <p:spPr>
              <a:xfrm flipV="1">
                <a:off x="0" y="6051600"/>
                <a:ext cx="703440" cy="8064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360 h 806400"/>
                  <a:gd name="textAreaBottom" fmla="*/ 80712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1"/>
              <p:cNvSpPr/>
              <p:nvPr/>
            </p:nvSpPr>
            <p:spPr>
              <a:xfrm flipH="1">
                <a:off x="8440560" y="0"/>
                <a:ext cx="703440" cy="806400"/>
              </a:xfrm>
              <a:custGeom>
                <a:avLst/>
                <a:gdLst>
                  <a:gd name="textAreaLeft" fmla="*/ 360 w 703440"/>
                  <a:gd name="textAreaRight" fmla="*/ 704160 w 70344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7097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8A28-7EA9-46BD-B91F-EA0C052E5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6"/>
          </p:nvPr>
        </p:nvSpPr>
        <p:spPr>
          <a:xfrm>
            <a:off x="96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82640" y="460800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- CH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ever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IR Stem-Changing Verbs follow different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--&gt; I Stem-Changers keep the I in the 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MO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ÁI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- CH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--&gt; IE Stem-Changers DROP the E in the NOSOTROS and keep th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MO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ÁI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- CH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--&gt; IE Stem-Changers DROP the E in the NOSOTROS and keep th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 D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 D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AMO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 D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 D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ÁI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 D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 D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- CH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--&gt; UE Stem-Changers DROP the E in the NOSOTROS and keep the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AMO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ÁI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form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opposite vowel”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ER / 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7920" y="4368960"/>
          <a:ext cx="2438280" cy="17269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876920" y="4368960"/>
          <a:ext cx="2514600" cy="172692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8000" y="1684440"/>
            <a:ext cx="7772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L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84440"/>
            <a:ext cx="91440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start with YO 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find irregulars (other than dishes)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C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go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go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OC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ozco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OZ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S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enso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RMI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rmo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68444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, des, dé, demos, 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ya, vayas, vaya, vayamos, va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, seas, sea, seamos, s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ya, hayas, haya, hayamos, ha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é, estés, esté, estemos, est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, sepas, sepa, sepamos, se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ÁS IR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1304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S ENDING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CAR, TOCAR, BUS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ÁS IR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91304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S ENDING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AR, JUGAR, R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G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É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ÁS IR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91304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S ENDING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jemplo:EMPEZAR, COMENZAR, ALMOR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I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- CH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OSOTROS form of EMPEZAR dropped the stem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MO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ÉI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R and -ER stem-changing verbs will drop the change in the nos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0:44:25Z</dcterms:created>
  <dc:creator>Jay Schaab</dc:creator>
  <dc:description/>
  <dc:language>en-US</dc:language>
  <cp:lastModifiedBy>jbarber</cp:lastModifiedBy>
  <dcterms:modified xsi:type="dcterms:W3CDTF">2011-02-09T19:18:24Z</dcterms:modified>
  <cp:revision>16</cp:revision>
  <dc:subject/>
  <dc:title>THE SUBJUNCTIVE</dc:title>
</cp:coreProperties>
</file>